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5FD-5210-419F-8084-4161E06D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A8DC-99E1-4DD7-8E2C-1A9D1EE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B33-9B9F-4AB4-B3A5-8C4C714D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130F-1E3E-40A4-8EC7-55FB4622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2D3-5EC3-4776-BD93-4548838D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D79-329D-41B6-8DCD-B9A1ABE1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4F3-B78A-467C-9248-E9639E40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DDC-58DF-4902-986B-2058CD34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2D4-8554-4977-96EC-6B64E1FC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A92-AF33-499B-A315-D7E71B18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BC4-3270-47B4-A2A4-82AA096B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0DF-09CF-431B-A8E0-6A8A107F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D6C1-AC0A-4C86-92C9-75897887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3 Intermedi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ketball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ap Les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 structure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 strategy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ree roles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fundamentals of play in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method you used to gather information about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our strengths in the fast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four weaknesses in the fast bre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set goals and targ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f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weaknesses (one from zone and one from fast break).  This will be the element you try and improve next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wo reasons you want to improve this element.  What effect will this have on your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swering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question you answer should start with a sentence.  Your introductory sentence should reword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questions are asking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so where possible answer in the fir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introduction develop the main content of your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finish with a closing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79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swering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 me everything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you played in your chosen structure or strateg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 structure or strategy you hav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620280"/>
            <a:ext cx="7272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T TEST -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dnesday 29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for unit t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ver all notes and course book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620280"/>
            <a:ext cx="734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vision tas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oster detailing everything you have learnt about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47:05Z</dcterms:created>
  <dc:creator>hamiltonp</dc:creator>
  <dc:description/>
  <dc:language>en-US</dc:language>
  <cp:lastModifiedBy>hamiltonp</cp:lastModifiedBy>
  <dcterms:modified xsi:type="dcterms:W3CDTF">2010-09-21T08:16:09Z</dcterms:modified>
  <cp:revision>3</cp:revision>
  <dc:subject/>
  <dc:title> S3 Intermediate</dc:title>
</cp:coreProperties>
</file>